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EC4-80F4-448A-8BCB-A4FCD125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6BD-041D-45B5-A98D-825A8F0D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0B7F-9408-4EC8-99CC-96052871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7C9A-E865-4170-B667-A6BDB263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2CF7-DF35-4F85-9979-AE6F1978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1AE7-EC1B-444F-9423-D1E67EFD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510E-4BCA-4CC7-9B24-B6EB19D7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6277-D1EF-4862-9C8A-EBA180DC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FF14-E5EB-4A99-ABB0-DB78CACB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C840-5F79-4AC2-A605-D41DC33E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05E2-A16B-4118-8C30-5DF95923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FA34-2B47-4694-8DF0-358DC530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3873-0EFA-4F8E-B704-A10A37F0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3C48-143B-40AB-9363-A2362053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479A-CA52-4A17-88B8-7BD8B966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8A10-185E-4F3E-B307-65B9D84F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7CD3-7DEC-4427-8A20-B534FA73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925F4-DB0B-4FBB-B68A-5D71C2E0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D1959-D5CD-42B2-AE77-5F2DF6D9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F3CD3-F765-40D5-AF52-81131CF7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9C2AC-679F-4E5C-967D-836D71AB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2F372-55B2-403B-BE69-64BB133F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A4DC-0525-4BD7-8F77-80C9DC2A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1912B-4276-400E-9C7A-A7A6BFE9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CE003-D235-483F-8390-38A85459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7F125-524A-488A-83F4-198DD257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5CB42-1C0D-4C8B-9C97-CD7FC124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FF4D8-E36B-446B-B1FC-3A0C956A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480C2-05C1-4DD3-AB93-750BA433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8CCDE-F51E-4D04-AF9C-6FF076D9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A6B6A-AD0B-478F-82B1-CF190490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19C54-C122-4B9B-A641-7F8CCF0D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B1A2C-0770-40C4-9A0E-4A9B899D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E632-E45D-41DE-B9F1-E5805787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BDD5E-83F8-49FF-8660-4D94D06F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EB7CE-71D2-44AF-B5AA-01723556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CBBDA-9A77-4059-A4F9-5287D741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C2643-5830-464F-A5FE-F8139D3D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F310F-0CDF-4A8C-8B0E-B065C405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CC86C-AB82-4F6E-A119-3E6E4647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BC633-6888-47E0-895D-40FCF401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A5AB7-8797-4198-9389-E612CE52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68CA6-B44F-4AEC-8894-21783A35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CB64B-71A5-4D11-86A6-24AC59AC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9317-DF9D-49BE-877F-D193A6F2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C6C1D-B2BD-4977-BC8E-3E931686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76070-96E0-487C-AACF-21E06214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3A6CC-235C-49AC-BA41-0753AE21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12DEF-BA25-443A-8431-557F2555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3C9F0-46AF-48A4-A711-24B5B0C5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BFBCC-3D2A-4656-A3A0-79FA6257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EFE2C-04C2-40A3-A1F7-2D22D0CB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AF837-2F27-4978-BFD4-567DD2BC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7CB3E-DCE8-4C94-A5A1-E3117D36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EAF74-18FA-49C1-9659-79880305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5384-ACC2-48E8-8ED6-95C21EF3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CC672-DE4C-4905-8392-4F8CDA92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E0EF4-B4D4-474F-803D-0C901279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FE8CD-6FCC-4734-8798-9E8C7ACF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DA0B1-DF57-4ADD-8BAD-A67FBF96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C4FBB-0D7F-4304-8AF8-C006E568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ACEE0-F340-4A2C-AFEA-AD8D5B6B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607B8-29BB-4B49-AF4C-5047A917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55116-6395-428A-8618-B8B740B5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2B8C6-FF3C-42BF-A9D3-3414711B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B5F72-6831-4E6B-AF99-38C3EB82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899-A017-4D9A-B130-A6116E75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8C31A-3AF4-4E2F-9460-A5811773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36D43-B3CD-4747-9611-F52A0151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9DCCC-5791-4A3D-A167-EE9361E3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5AA89-BDED-4247-9B3F-69941EBE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F81E8-338B-4B5F-BCD0-F334C43B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F6B88-E887-4CD1-8BFA-B670598F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059B9-C155-424A-8CAA-4F17D4F2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E42ED-D920-4A23-BBAA-D21F0603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7DD27-C734-40AE-AFE4-43BC3A8E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DFF8F-9987-477B-A9E2-3A47699F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A37-DE87-4534-9050-FDC3932D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90794-77CF-4B0B-817D-C546DFFE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63AE6-F580-4458-8362-C643FA35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F2952-FBC9-4822-AECD-2C292088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69279-2753-4025-91D7-B80C396E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67EB8-9EC2-455F-A010-D594A677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7E8F-5309-489E-8147-7978DCAE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89CE-7145-4352-856E-BF9F0ED5A0FB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D486-07EB-45ED-8411-F945B56073BE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92B6-1C9D-4803-A3CC-FF44E7A3B7A4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0A7A-CBFA-4F85-A19A-22E177EDDAF3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297F-BA55-424C-A9D4-1DDEB9AD2BA3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B2F4-3E6E-42AA-BA30-48256BC4EE3C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F319-F766-4D0B-BAD9-E9C74E1A88FB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53143"/>
                </a:solidFill>
                <a:latin typeface="Cooper Black"/>
              </a:rPr>
              <a:t>Challenge 4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7fd13b"/>
                </a:solidFill>
                <a:latin typeface="Cooper Black"/>
              </a:rPr>
              <a:t>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7fd13b"/>
              </a:solidFill>
              <a:latin typeface="Cooper Black"/>
              <a:ea typeface="Cooper Black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. LaRosa  http://www.middleschoolscience.com  for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322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addc"/>
                </a:solidFill>
                <a:latin typeface="Cooper Black"/>
              </a:rPr>
              <a:t>Equipment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addc"/>
              </a:solidFill>
              <a:latin typeface="Cooper Black"/>
              <a:ea typeface="Cooper Black"/>
            </a:endParaRPr>
          </a:p>
        </p:txBody>
      </p:sp>
      <p:pic>
        <p:nvPicPr>
          <p:cNvPr id="323" name="Picture 7" descr="C:\Documents and Settings\Liz\Local Settings\Temporary Internet Files\Content.IE5\MB5MZXEX\MCj04110470000[1].wmf"/>
          <p:cNvPicPr/>
          <p:nvPr/>
        </p:nvPicPr>
        <p:blipFill>
          <a:blip r:embed="rId2"/>
          <a:stretch/>
        </p:blipFill>
        <p:spPr>
          <a:xfrm>
            <a:off x="533520" y="3429000"/>
            <a:ext cx="26668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23560" y="76320"/>
            <a:ext cx="786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5a74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495a74"/>
                </a:solidFill>
                <a:latin typeface="Gill Sans MT"/>
              </a:rPr>
              <a:t>Which piece of lab equipment would you use to measure approximately 200 mL of water?</a:t>
            </a:r>
            <a:endParaRPr b="0" lang="en-US" sz="32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25" name="Rectangle 12" descr=""/>
          <p:cNvPicPr/>
          <p:nvPr/>
        </p:nvPicPr>
        <p:blipFill>
          <a:blip r:embed="rId1"/>
          <a:stretch/>
        </p:blipFill>
        <p:spPr>
          <a:xfrm>
            <a:off x="2535120" y="3011400"/>
            <a:ext cx="970200" cy="828720"/>
          </a:xfrm>
          <a:prstGeom prst="rect">
            <a:avLst/>
          </a:prstGeom>
          <a:ln w="0">
            <a:noFill/>
          </a:ln>
        </p:spPr>
      </p:pic>
      <p:pic>
        <p:nvPicPr>
          <p:cNvPr id="326" name="Rectangle 13" descr=""/>
          <p:cNvPicPr/>
          <p:nvPr/>
        </p:nvPicPr>
        <p:blipFill>
          <a:blip r:embed="rId2"/>
          <a:stretch/>
        </p:blipFill>
        <p:spPr>
          <a:xfrm>
            <a:off x="4809960" y="3524400"/>
            <a:ext cx="987480" cy="828360"/>
          </a:xfrm>
          <a:prstGeom prst="rect">
            <a:avLst/>
          </a:prstGeom>
          <a:ln w="0">
            <a:noFill/>
          </a:ln>
        </p:spPr>
      </p:pic>
      <p:pic>
        <p:nvPicPr>
          <p:cNvPr id="327" name="Rectangle 14" descr=""/>
          <p:cNvPicPr/>
          <p:nvPr/>
        </p:nvPicPr>
        <p:blipFill>
          <a:blip r:embed="rId3"/>
          <a:stretch/>
        </p:blipFill>
        <p:spPr>
          <a:xfrm>
            <a:off x="7242120" y="3090960"/>
            <a:ext cx="987480" cy="822240"/>
          </a:xfrm>
          <a:prstGeom prst="rect">
            <a:avLst/>
          </a:prstGeom>
          <a:ln w="0">
            <a:noFill/>
          </a:ln>
        </p:spPr>
      </p:pic>
      <p:pic>
        <p:nvPicPr>
          <p:cNvPr id="328" name="Rectangle 15" descr=""/>
          <p:cNvPicPr/>
          <p:nvPr/>
        </p:nvPicPr>
        <p:blipFill>
          <a:blip r:embed="rId4"/>
          <a:stretch/>
        </p:blipFill>
        <p:spPr>
          <a:xfrm>
            <a:off x="4280040" y="5297400"/>
            <a:ext cx="987120" cy="8287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6" descr=""/>
          <p:cNvPicPr/>
          <p:nvPr/>
        </p:nvPicPr>
        <p:blipFill>
          <a:blip r:embed="rId5"/>
          <a:stretch/>
        </p:blipFill>
        <p:spPr>
          <a:xfrm>
            <a:off x="3809880" y="1393920"/>
            <a:ext cx="2314800" cy="2340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7" descr=""/>
          <p:cNvPicPr/>
          <p:nvPr/>
        </p:nvPicPr>
        <p:blipFill>
          <a:blip r:embed="rId6"/>
          <a:stretch/>
        </p:blipFill>
        <p:spPr>
          <a:xfrm>
            <a:off x="7010280" y="1143000"/>
            <a:ext cx="1600200" cy="2082960"/>
          </a:xfrm>
          <a:prstGeom prst="rect">
            <a:avLst/>
          </a:prstGeom>
          <a:ln w="0">
            <a:noFill/>
          </a:ln>
        </p:spPr>
      </p:pic>
      <p:pic>
        <p:nvPicPr>
          <p:cNvPr id="331" name="Rectangle 27" descr=""/>
          <p:cNvPicPr/>
          <p:nvPr/>
        </p:nvPicPr>
        <p:blipFill>
          <a:blip r:embed="rId7"/>
          <a:stretch/>
        </p:blipFill>
        <p:spPr>
          <a:xfrm>
            <a:off x="7327800" y="5224320"/>
            <a:ext cx="957240" cy="822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3" descr="http://www.msnucleus.org/membership/html/k-6/as/scimath/3/images/assm3_5a2.gif"/>
          <p:cNvPicPr/>
          <p:nvPr/>
        </p:nvPicPr>
        <p:blipFill>
          <a:blip r:embed="rId8"/>
          <a:stretch/>
        </p:blipFill>
        <p:spPr>
          <a:xfrm>
            <a:off x="6324480" y="3657600"/>
            <a:ext cx="1067040" cy="2666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" descr=""/>
          <p:cNvPicPr/>
          <p:nvPr/>
        </p:nvPicPr>
        <p:blipFill>
          <a:blip r:embed="rId9"/>
          <a:stretch/>
        </p:blipFill>
        <p:spPr>
          <a:xfrm>
            <a:off x="1143000" y="4038480"/>
            <a:ext cx="3429000" cy="24973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http://www.columbia.edu/itc/chemistry/chem-cf1500/labpix/images/longstemfunnel.jpg"/>
          <p:cNvPicPr/>
          <p:nvPr/>
        </p:nvPicPr>
        <p:blipFill>
          <a:blip r:embed="rId10"/>
          <a:stretch/>
        </p:blipFill>
        <p:spPr>
          <a:xfrm rot="1954200">
            <a:off x="1922040" y="1437840"/>
            <a:ext cx="1143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13" descr=""/>
          <p:cNvPicPr/>
          <p:nvPr/>
        </p:nvPicPr>
        <p:blipFill>
          <a:blip r:embed="rId1"/>
          <a:stretch/>
        </p:blipFill>
        <p:spPr>
          <a:xfrm>
            <a:off x="4809960" y="3371760"/>
            <a:ext cx="987480" cy="828720"/>
          </a:xfrm>
          <a:prstGeom prst="rect">
            <a:avLst/>
          </a:prstGeom>
          <a:ln w="0">
            <a:noFill/>
          </a:ln>
        </p:spPr>
      </p:pic>
      <p:pic>
        <p:nvPicPr>
          <p:cNvPr id="336" name="Rectangle 14" descr=""/>
          <p:cNvPicPr/>
          <p:nvPr/>
        </p:nvPicPr>
        <p:blipFill>
          <a:blip r:embed="rId2"/>
          <a:stretch/>
        </p:blipFill>
        <p:spPr>
          <a:xfrm>
            <a:off x="7242120" y="3090960"/>
            <a:ext cx="987480" cy="8222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6" descr=""/>
          <p:cNvPicPr/>
          <p:nvPr/>
        </p:nvPicPr>
        <p:blipFill>
          <a:blip r:embed="rId3"/>
          <a:stretch/>
        </p:blipFill>
        <p:spPr>
          <a:xfrm>
            <a:off x="3809880" y="1295280"/>
            <a:ext cx="2314800" cy="2340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7" descr=""/>
          <p:cNvPicPr/>
          <p:nvPr/>
        </p:nvPicPr>
        <p:blipFill>
          <a:blip r:embed="rId4"/>
          <a:stretch/>
        </p:blipFill>
        <p:spPr>
          <a:xfrm>
            <a:off x="7010280" y="1143000"/>
            <a:ext cx="1600200" cy="2082960"/>
          </a:xfrm>
          <a:prstGeom prst="rect">
            <a:avLst/>
          </a:prstGeom>
          <a:ln w="0">
            <a:noFill/>
          </a:ln>
        </p:spPr>
      </p:pic>
      <p:pic>
        <p:nvPicPr>
          <p:cNvPr id="339" name="Rectangle 16" descr=""/>
          <p:cNvPicPr/>
          <p:nvPr/>
        </p:nvPicPr>
        <p:blipFill>
          <a:blip r:embed="rId5"/>
          <a:stretch/>
        </p:blipFill>
        <p:spPr>
          <a:xfrm>
            <a:off x="1189080" y="1889280"/>
            <a:ext cx="2346120" cy="2408040"/>
          </a:xfrm>
          <a:prstGeom prst="rect">
            <a:avLst/>
          </a:prstGeom>
          <a:ln w="0">
            <a:noFill/>
          </a:ln>
        </p:spPr>
      </p:pic>
      <p:pic>
        <p:nvPicPr>
          <p:cNvPr id="340" name="Rectangle 17" descr=""/>
          <p:cNvPicPr/>
          <p:nvPr/>
        </p:nvPicPr>
        <p:blipFill>
          <a:blip r:embed="rId6"/>
          <a:stretch/>
        </p:blipFill>
        <p:spPr>
          <a:xfrm>
            <a:off x="4552920" y="4327560"/>
            <a:ext cx="4346640" cy="7444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7240" y="228600"/>
            <a:ext cx="7867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5a74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495a74"/>
                </a:solidFill>
                <a:latin typeface="Gill Sans MT"/>
              </a:rPr>
              <a:t>Which piece of lab equipment would you use to measure approximately 200 mL of water?</a:t>
            </a:r>
            <a:endParaRPr b="0" lang="en-US" sz="3200" spc="-1" strike="noStrike">
              <a:solidFill>
                <a:srgbClr val="495a7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Liz LaRosa</dc:creator>
  <dc:description/>
  <dc:language>en-US</dc:language>
  <cp:lastModifiedBy>Liz</cp:lastModifiedBy>
  <dcterms:modified xsi:type="dcterms:W3CDTF">2008-08-15T23:34:40Z</dcterms:modified>
  <cp:revision>140</cp:revision>
  <dc:subject/>
  <dc:title>Slide 1</dc:title>
</cp:coreProperties>
</file>